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D31-0F97-4E9A-9CF8-6459EFE4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6C48-CC3C-486F-BE9C-EFD5F334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13E-FEFD-4C25-B437-64B01ACD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2609-3FFA-4935-A9E7-598F6FD4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E87-66D3-4E06-9E73-624E1F99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470-E931-4987-8E7B-1633C8C2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A8EF-B654-4AE0-B11F-E93C72BA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E05-39C3-44E7-83D0-8AF0211D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57C8-6F44-4F9B-A801-35142EB9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EDB-587F-471E-830F-009BF016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41B-213E-4701-9123-2CFF237E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F5CB-4BF7-4D8D-A69E-663707FC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4378-C032-49DF-8943-A784F2C1B3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al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With Remaind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380880"/>
            <a:ext cx="48769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calculator to help you he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95280"/>
            <a:ext cx="6095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How many 2p chews can you buy for 23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2819520"/>
            <a:ext cx="9144000" cy="2968560"/>
            <a:chOff x="0" y="2819520"/>
            <a:chExt cx="9144000" cy="2968560"/>
          </a:xfrm>
        </p:grpSpPr>
        <p:sp>
          <p:nvSpPr>
            <p:cNvPr id="45" name=""/>
            <p:cNvSpPr/>
            <p:nvPr/>
          </p:nvSpPr>
          <p:spPr>
            <a:xfrm>
              <a:off x="0" y="3429000"/>
              <a:ext cx="6629400" cy="119124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) A boat can ferry 10 people at a time. How many trips are required to carry 123 people across the riv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6473880" y="2819520"/>
              <a:ext cx="2670120" cy="296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7596360" y="5516640"/>
            <a:ext cx="122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04920" y="380880"/>
            <a:ext cx="8839080" cy="2298960"/>
            <a:chOff x="304920" y="380880"/>
            <a:chExt cx="8839080" cy="2298960"/>
          </a:xfrm>
        </p:grpSpPr>
        <p:sp>
          <p:nvSpPr>
            <p:cNvPr id="49" name=""/>
            <p:cNvSpPr/>
            <p:nvPr/>
          </p:nvSpPr>
          <p:spPr>
            <a:xfrm>
              <a:off x="304920" y="380880"/>
              <a:ext cx="8839080" cy="45972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) How many football teams of 11 can you make out of 127 people ?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7543800" y="990720"/>
              <a:ext cx="119556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43800" y="2133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228600" y="3733920"/>
            <a:ext cx="83818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If you buy as many  7p sweets as you can for 60p, how much money is left over 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2708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18:57:36Z</dcterms:created>
  <dc:creator>LT Scotland</dc:creator>
  <dc:description/>
  <dc:language>en-US</dc:language>
  <cp:lastModifiedBy>LTS</cp:lastModifiedBy>
  <dcterms:modified xsi:type="dcterms:W3CDTF">2004-11-28T13:43:41Z</dcterms:modified>
  <cp:revision>2</cp:revision>
  <dc:subject/>
  <dc:title>Access 3 Mathematics: Unit 1 Outcome 1 - Dealing With Remainders.</dc:title>
</cp:coreProperties>
</file>